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BD30-E7E6-4A1D-9EF5-3775DA67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3D5D-1B4F-4A04-83E5-2A084BE4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B3A-DC68-4D0D-A4B6-92E059DA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3297-EDF3-4E41-9EC8-7CD3EDD0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BA54-4257-43B9-90AB-4E844A93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1EA7-99B6-40DA-AF9F-A0DEFB18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A3A7-A60B-4804-BE53-F3345367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4124-34E8-4749-8D2F-1054B095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4E33-9632-4D08-ABDE-D5FEA061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6B62-784E-40F5-B340-3F0E7216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824E-2FAA-45DF-A431-F2C9B17E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03C-CC3C-4F78-96A2-2FE857FB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4997-FAFA-4DC4-836B-EDEBC132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34F9-0FA3-47AB-BDB6-1DC25D2C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D20C-229A-457F-91A8-82D22A54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6C73-E448-4477-B927-32F252A5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0036-CC37-4F8C-B39F-1F00666A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999-E06C-462D-AFC1-C0E2DA70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326-5EB4-4A93-9EA1-D506700C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B26E-7F96-4AD1-B14C-DCE9EDED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BA5-F299-4E62-9CE5-E1C1F3EB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26F-F901-4BFB-A463-863520AF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6B7-5190-4516-8AAB-AA8FB620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473-F6F7-4C0D-81DA-EF01A8B2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22AB-A501-47BE-B814-D9E862E708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6920-7ED4-4EFF-AFC8-7C060F4081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IVICS – SEMESTER RE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litical Socializ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ndividuals form political ideas and beliefs – comes from family, school, religion, peer groups, gender and ethnicity, and news medi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omination by Peti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didates who are not from major parties but have gotten enough signatures to be placed on a ball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terest Group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cus on specific issues or topics and encourage political parties to maintain and promote their beliefs and val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lectoral Colleg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up that elects the President – composed of the number of representatives and senators per st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wers of Congre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eate federal la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lare W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in mone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ulate commerce (trad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l of these are called expressed or enumerated powers and are described in Article I of the Constit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hecks and Balan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ach branch holds some power over the other two branch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mpeaching the Presiden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esident vetoing a bi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gress overriding a veto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nate ratifying a trea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ill Making Proce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use or Senate creates and passes a bi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sident signs or vetoes the bill (this role is called Chief Legislato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eto Pow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sid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veto the entire bill on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cket veto – less than 10 days before Congress adjour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ait 10 days, not signing the bill and allowing the bill to become la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gressional Overr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/3 majority of Congress can overri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ederal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ared powers between the federal and state govern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linois Constitu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islative body = General Assemb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ief Executive = Govern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me Rule = process in which a county or municipal government may provide the citizens its own servi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claration of Independe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clare freedom from Brita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end natural righ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plain grievances (issues) against K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rpose of Governm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tect people’s righ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in grievan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itain limiting people’s righ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th Quarter Learning Target Review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743200" y="2216160"/>
            <a:ext cx="36576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use of Representa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 years ol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7 year citiz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 year te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n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0 years ol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9 year citiz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 year te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sid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5 years ol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4 year citizen – natural bor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 year te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preme Court Justice or Federal Jud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itiz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fe te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ilibus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굴림"/>
              </a:rPr>
              <a:t>The ability to give a long speech or series of speeches in an attempt to delay the work of the Senat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ructu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ticle I – Legislative (Congress) makes la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ticle II – Executive – enforces la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ticle III – Judicial – reviews la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ll of Rights –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en Amend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ights of Citize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ecutive Privileg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don – the excuse of an offense without exacting a penalty; a release from the legal penalties of an offen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굴림"/>
              </a:rPr>
              <a:t>Executive agreement - Presidents make deals with other nations or leaders, they are avoiding the treaty ratification power of the Senat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w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rove treaties - Sen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rt revenue bills - Hou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age respective departments - Cabin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e laws unconstitutional – Supreme Cou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toes Laws - Presid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eachment power – House Impeaches / Senate Tr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roves appointments - Sen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ander in Chief - Presid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sides over the House of Representatives - Speak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s opinions on law – Supreme Cou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mendment Proce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gress proposes amendments with a 2/3 majority vo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te legislatures ratify amendments with a ¾ vo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971 Changes to Illinois Constit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tection against discrimination for the handicapp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tection against discrimination for wom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paris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llinois Gover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cuti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ne Item Ve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ud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lec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presentati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inimum age = 2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18 + 59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 Gover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cuti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line item ve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ud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ppoi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presentati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inimum age = 2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35 + 1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und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cial Contra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 that people give consent to the government in exchange for prote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if the government doesn’t do its duty citizens have the right to abolish the gover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deralists – Strong, central govern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nti-Federalists – Weaker central government with more power in the stat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ill of Rights – key issue to ratifying the Constitution to ensure people’s righ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shed by Anti-federal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is to protect individual libe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rms of Govern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Democracy – everybody votes for everyth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ctatorship – total 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narchy – hereditary royalty with symbolic responsibilit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bsolute Monarchy – hereditary royalty with total 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ocracy – religious and political leadership combin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sidential vs. Parliamenta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ident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cutive and legislative branches elected by vo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liamenta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gislative branch elected by vo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cutive appointed by Legisla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conom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economy – government makes all decisions (goal of equalit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 economy – free enterprise, supply and demand controlled by consumers and produc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ditional economy – no government influence – based on exchange of goo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tive Citizenship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74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ing civic participation to address problems facing their communities, their country, and the worl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1074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voting, running for office, working on a political campaign, sponsoring food drives, etc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beral Ideolo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avoring an active role for government in solving society’s proble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Support Health care, same-sex marriage, social progra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servative Ideolo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avoring a limited role of government in economic affairs and a greater role in regulating social affai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reduce taxes and regulations, ban same-sex marriage, limit immig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4:11:13Z</dcterms:created>
  <dc:creator>School District U46</dc:creator>
  <dc:description/>
  <dc:language>en-US</dc:language>
  <cp:lastModifiedBy>School District U46</cp:lastModifiedBy>
  <dcterms:modified xsi:type="dcterms:W3CDTF">2013-05-09T15:02:56Z</dcterms:modified>
  <cp:revision>18</cp:revision>
  <dc:subject/>
  <dc:title>CIVICS – SEMESTER REVIEW</dc:title>
</cp:coreProperties>
</file>